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9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69564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0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1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EA7BD45-F02F-4FD8-9839-5B9DCDBE4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4CC725F-09F4-4729-B156-800E38643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330120" y="542880"/>
            <a:ext cx="6351840" cy="4764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351000" y="5553000"/>
            <a:ext cx="6308640" cy="33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9ADE2-1EEA-4A49-B820-108E832A4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C606D-3D4D-47ED-BFDD-D24C59AE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C8B11-4146-4686-BD9E-E8A3CFEDC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BA650-E86B-446B-9633-D6FBB8D70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AB5F2-A217-4DEB-ACDD-69071922B3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E4BB0-B308-41EB-9E13-ADD69932A0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2A41FC-37E1-4D53-915F-3B85E76D1A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D9251A-4A61-4402-B728-6E073421BA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4B5CDC-BFA7-4C79-B0A0-CA70A43453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65DAD2-7677-4E23-A679-EDF2199D33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C961A9-630B-4E20-B445-8E3B501645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52045-A2D7-45DD-8C41-B17D10A2C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9CAF7-DD7D-4670-B9E0-14BD7B47AE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61106-43DA-48A9-9F9C-908271304C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886D8-3103-4B83-938A-267A5EA69E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3BB7B4-54E7-4579-86AE-787D9D81E0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057FC-E529-495B-A5BB-B4362E3753E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D84F4A-58B3-4882-8F28-35D6D50E0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B44786-0521-4543-9067-D2F7B7A2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BC109C-ACFD-496E-921A-5E2102D8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B6F663-F29A-429B-B679-8FDA6939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BE0EC7-8E8D-43D5-9D20-34896921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1FE2D-AD52-42B9-8B00-FB6BA89F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107E0B-BE87-4479-81C2-AC73EF96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6F8A41-394E-4D55-9497-F82562F5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B3A565-71AE-436D-A015-9691B632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22002C-5BF9-44EC-B5EA-C20D48AD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08A68E-753D-4F13-A4DC-A3B6481C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638240-0B5A-4327-B425-598C59945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E1F111-CF65-463A-8724-CAB0AF343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B2341-66F4-4074-BEE4-01DFE9DD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3D67D-FFE6-4511-978B-3E0B5A37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818E4-5A4E-46EE-BE11-7AFB431D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73FA5-F1C0-485E-9109-A9F14F5A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BE7DF-6164-4F6E-8366-531D8200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DA70E-B01C-4A33-9BEE-975D7C60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B4B3-062B-41BF-9F7A-AC8B4EE96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c3ac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d9d2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9f0d3"/>
                </a:gs>
                <a:gs pos="100000">
                  <a:srgbClr val="d2ca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240" y="7920"/>
            <a:ext cx="9140760" cy="6850080"/>
            <a:chOff x="3240" y="792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6440" y="3548160"/>
              <a:ext cx="6392880" cy="3309840"/>
              <a:chOff x="2746440" y="354816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6440" y="420516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3280" y="424800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6920" y="531972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c3ac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5720" y="354816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8520" y="368604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d9d2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6880" y="213660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9f0d3"/>
                </a:gs>
                <a:gs pos="100000">
                  <a:srgbClr val="d2ca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240" y="792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ftr" idx="4"/>
          </p:nvPr>
        </p:nvSpPr>
        <p:spPr>
          <a:xfrm>
            <a:off x="304560" y="6171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0475-97FB-438A-842E-AABEE44FB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6849-2240-487E-8A48-294F471D5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5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69564"/>
                </a:solidFill>
                <a:latin typeface="Garamond"/>
              </a:rPr>
              <a:t> </a:t>
            </a:r>
            <a:r>
              <a:rPr b="1" lang="en-US" sz="5400" spc="-1" strike="noStrike">
                <a:solidFill>
                  <a:srgbClr val="a69564"/>
                </a:solidFill>
                <a:latin typeface="Garamond"/>
              </a:rPr>
              <a:t>Learning and Achievement </a:t>
            </a:r>
            <a:br>
              <a:rPr sz="5400"/>
            </a:br>
            <a:endParaRPr b="1" lang="en-US" sz="5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523880" y="44953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b2500"/>
                </a:solidFill>
                <a:latin typeface="Garamond"/>
              </a:rPr>
              <a:t>School Libraries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236232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Across the </a:t>
            </a:r>
            <a:br>
              <a:rPr sz="4400"/>
            </a:b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urriculum</a:t>
            </a:r>
            <a:endParaRPr b="0" lang="en-US" sz="4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373392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For All Students</a:t>
            </a:r>
            <a:endParaRPr b="0" lang="en-US" sz="4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C955A-FA53-444B-AFB9-0CA55D9DEC07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3505320" y="762120"/>
            <a:ext cx="2409480" cy="2632680"/>
            <a:chOff x="3505320" y="762120"/>
            <a:chExt cx="2409480" cy="2632680"/>
          </a:xfrm>
        </p:grpSpPr>
        <p:sp>
          <p:nvSpPr>
            <p:cNvPr id="152" name=""/>
            <p:cNvSpPr/>
            <p:nvPr/>
          </p:nvSpPr>
          <p:spPr>
            <a:xfrm flipV="1">
              <a:off x="4699080" y="1335960"/>
              <a:ext cx="0" cy="205884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3505320" y="762120"/>
              <a:ext cx="2409480" cy="1250280"/>
              <a:chOff x="3505320" y="762120"/>
              <a:chExt cx="2409480" cy="1250280"/>
            </a:xfrm>
          </p:grpSpPr>
          <p:sp>
            <p:nvSpPr>
              <p:cNvPr id="154" name=""/>
              <p:cNvSpPr/>
              <p:nvPr/>
            </p:nvSpPr>
            <p:spPr>
              <a:xfrm>
                <a:off x="3505320" y="762120"/>
                <a:ext cx="2409480" cy="125028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634920" y="842400"/>
                <a:ext cx="2143080" cy="108396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Curriculum and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Instruction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" name=""/>
          <p:cNvGrpSpPr/>
          <p:nvPr/>
        </p:nvGrpSpPr>
        <p:grpSpPr>
          <a:xfrm>
            <a:off x="5000760" y="2057400"/>
            <a:ext cx="4142880" cy="1250640"/>
            <a:chOff x="5000760" y="2057400"/>
            <a:chExt cx="4142880" cy="1250640"/>
          </a:xfrm>
        </p:grpSpPr>
        <p:sp>
          <p:nvSpPr>
            <p:cNvPr id="157" name=""/>
            <p:cNvSpPr/>
            <p:nvPr/>
          </p:nvSpPr>
          <p:spPr>
            <a:xfrm flipV="1">
              <a:off x="5000760" y="2678040"/>
              <a:ext cx="2895480" cy="60336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6452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6734160" y="2057400"/>
              <a:ext cx="2409480" cy="1250640"/>
              <a:chOff x="6734160" y="2057400"/>
              <a:chExt cx="2409480" cy="1250640"/>
            </a:xfrm>
          </p:grpSpPr>
          <p:sp>
            <p:nvSpPr>
              <p:cNvPr id="159" name=""/>
              <p:cNvSpPr/>
              <p:nvPr/>
            </p:nvSpPr>
            <p:spPr>
              <a:xfrm>
                <a:off x="6734160" y="205740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16452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863760" y="213804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16452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Materials 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61" name=""/>
          <p:cNvGrpSpPr/>
          <p:nvPr/>
        </p:nvGrpSpPr>
        <p:grpSpPr>
          <a:xfrm>
            <a:off x="5378040" y="3122640"/>
            <a:ext cx="2670120" cy="2493360"/>
            <a:chOff x="5378040" y="3122640"/>
            <a:chExt cx="2670120" cy="2493360"/>
          </a:xfrm>
        </p:grpSpPr>
        <p:sp>
          <p:nvSpPr>
            <p:cNvPr id="162" name=""/>
            <p:cNvSpPr/>
            <p:nvPr/>
          </p:nvSpPr>
          <p:spPr>
            <a:xfrm>
              <a:off x="5378040" y="3122640"/>
              <a:ext cx="1391040" cy="190296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5638680" y="4365360"/>
              <a:ext cx="2409480" cy="1250640"/>
              <a:chOff x="5638680" y="4365360"/>
              <a:chExt cx="2409480" cy="1250640"/>
            </a:xfrm>
          </p:grpSpPr>
          <p:sp>
            <p:nvSpPr>
              <p:cNvPr id="164" name=""/>
              <p:cNvSpPr/>
              <p:nvPr/>
            </p:nvSpPr>
            <p:spPr>
              <a:xfrm>
                <a:off x="5638680" y="436536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768280" y="444600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ystem 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1371600" y="3199320"/>
            <a:ext cx="2631960" cy="2493000"/>
            <a:chOff x="1371600" y="3199320"/>
            <a:chExt cx="2631960" cy="2493000"/>
          </a:xfrm>
        </p:grpSpPr>
        <p:sp>
          <p:nvSpPr>
            <p:cNvPr id="167" name=""/>
            <p:cNvSpPr/>
            <p:nvPr/>
          </p:nvSpPr>
          <p:spPr>
            <a:xfrm flipH="1">
              <a:off x="2611800" y="3199320"/>
              <a:ext cx="1391760" cy="190224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1371600" y="4441680"/>
              <a:ext cx="2409480" cy="1250640"/>
              <a:chOff x="1371600" y="4441680"/>
              <a:chExt cx="2409480" cy="1250640"/>
            </a:xfrm>
          </p:grpSpPr>
          <p:sp>
            <p:nvSpPr>
              <p:cNvPr id="169" name=""/>
              <p:cNvSpPr/>
              <p:nvPr/>
            </p:nvSpPr>
            <p:spPr>
              <a:xfrm>
                <a:off x="1371600" y="444168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501200" y="452232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Assessmen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228600" y="2209680"/>
            <a:ext cx="4215960" cy="1250640"/>
            <a:chOff x="228600" y="2209680"/>
            <a:chExt cx="4215960" cy="1250640"/>
          </a:xfrm>
        </p:grpSpPr>
        <p:sp>
          <p:nvSpPr>
            <p:cNvPr id="172" name=""/>
            <p:cNvSpPr/>
            <p:nvPr/>
          </p:nvSpPr>
          <p:spPr>
            <a:xfrm flipH="1" flipV="1">
              <a:off x="1549080" y="2830320"/>
              <a:ext cx="2895480" cy="60336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28600" y="2209680"/>
              <a:ext cx="2409480" cy="1250640"/>
              <a:chOff x="228600" y="2209680"/>
              <a:chExt cx="2409480" cy="1250640"/>
            </a:xfrm>
          </p:grpSpPr>
          <p:sp>
            <p:nvSpPr>
              <p:cNvPr id="174" name=""/>
              <p:cNvSpPr/>
              <p:nvPr/>
            </p:nvSpPr>
            <p:spPr>
              <a:xfrm>
                <a:off x="228600" y="220968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58200" y="229032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Administrative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"/>
          <p:cNvGrpSpPr/>
          <p:nvPr/>
        </p:nvGrpSpPr>
        <p:grpSpPr>
          <a:xfrm>
            <a:off x="2743200" y="2209680"/>
            <a:ext cx="3656880" cy="1904400"/>
            <a:chOff x="2743200" y="2209680"/>
            <a:chExt cx="3656880" cy="1904400"/>
          </a:xfrm>
        </p:grpSpPr>
        <p:sp>
          <p:nvSpPr>
            <p:cNvPr id="177" name=""/>
            <p:cNvSpPr/>
            <p:nvPr/>
          </p:nvSpPr>
          <p:spPr>
            <a:xfrm>
              <a:off x="2743200" y="2209680"/>
              <a:ext cx="3656880" cy="1904400"/>
            </a:xfrm>
            <a:prstGeom prst="ellipse">
              <a:avLst/>
            </a:prstGeom>
            <a:gradFill rotWithShape="0">
              <a:gsLst>
                <a:gs pos="0">
                  <a:srgbClr val="bfbfa7"/>
                </a:gs>
                <a:gs pos="100000">
                  <a:srgbClr val="3939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39760" y="2332440"/>
              <a:ext cx="3252600" cy="1650960"/>
            </a:xfrm>
            <a:prstGeom prst="ellipse">
              <a:avLst/>
            </a:prstGeom>
            <a:gradFill rotWithShape="0">
              <a:gsLst>
                <a:gs pos="0">
                  <a:srgbClr val="393932"/>
                </a:gs>
                <a:gs pos="100000">
                  <a:srgbClr val="bfbf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e3"/>
                  </a:solidFill>
                  <a:latin typeface="Arial"/>
                </a:rPr>
                <a:t>Information Literacy</a:t>
              </a:r>
              <a:br>
                <a:rPr sz="2000"/>
              </a:br>
              <a:r>
                <a:rPr b="1" lang="en-US" sz="2000" spc="-1" strike="noStrike">
                  <a:solidFill>
                    <a:srgbClr val="ffffe3"/>
                  </a:solidFill>
                  <a:latin typeface="Arial"/>
                </a:rPr>
                <a:t>Teaching and Learning</a:t>
              </a:r>
              <a:endParaRPr b="0" lang="en-US" sz="20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200160" y="166680"/>
            <a:ext cx="833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b6625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db6625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db6625"/>
                </a:solidFill>
                <a:latin typeface="Arial"/>
              </a:rPr>
              <a:t>Systemic School Library Improvement</a:t>
            </a:r>
            <a:endParaRPr b="0" lang="en-US" sz="2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19920" y="6172200"/>
            <a:ext cx="236196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Garamond"/>
              </a:rPr>
              <a:t>Based on National Science Resource Center Reform Model </a:t>
            </a:r>
            <a:r>
              <a:rPr b="0" lang="en-US" sz="1400" spc="-1" strike="noStrike">
                <a:solidFill>
                  <a:srgbClr val="4b2500"/>
                </a:solidFill>
                <a:latin typeface="Garamond"/>
              </a:rPr>
              <a:t>© NSRC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C0CAA-8E4A-42D1-9B36-62A558352240}" type="slidenum">
              <a:t>2</a:t>
            </a:fld>
          </a:p>
        </p:txBody>
      </p:sp>
    </p:spTree>
  </p:cSld>
  <p:transition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Quality Collections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Instructional Materials Aid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sufficient to meet the needs </a:t>
            </a:r>
            <a:br>
              <a:rPr sz="2800"/>
            </a:b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of the learning community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-229680" y="55440"/>
            <a:ext cx="2819520" cy="1738440"/>
            <a:chOff x="-229680" y="55440"/>
            <a:chExt cx="2819520" cy="1738440"/>
          </a:xfrm>
        </p:grpSpPr>
        <p:sp>
          <p:nvSpPr>
            <p:cNvPr id="184" name=""/>
            <p:cNvSpPr/>
            <p:nvPr/>
          </p:nvSpPr>
          <p:spPr>
            <a:xfrm>
              <a:off x="-229680" y="74880"/>
              <a:ext cx="1635120" cy="911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356400" y="55440"/>
              <a:ext cx="2233440" cy="1738440"/>
              <a:chOff x="356400" y="55440"/>
              <a:chExt cx="2233440" cy="1738440"/>
            </a:xfrm>
          </p:grpSpPr>
          <p:sp>
            <p:nvSpPr>
              <p:cNvPr id="186" name=""/>
              <p:cNvSpPr/>
              <p:nvPr/>
            </p:nvSpPr>
            <p:spPr>
              <a:xfrm rot="20118000">
                <a:off x="471960" y="428040"/>
                <a:ext cx="2001600" cy="99288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20118000">
                <a:off x="579240" y="492840"/>
                <a:ext cx="1780200" cy="86076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Materials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br>
                  <a:rPr sz="2000"/>
                </a:b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188" name=""/>
          <p:cNvSpPr/>
          <p:nvPr/>
        </p:nvSpPr>
        <p:spPr>
          <a:xfrm>
            <a:off x="1905120" y="1981080"/>
            <a:ext cx="5181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23880" y="137160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69564"/>
                </a:solidFill>
                <a:latin typeface="Garamond"/>
              </a:rPr>
              <a:t>Support the</a:t>
            </a:r>
            <a:br>
              <a:rPr sz="3600"/>
            </a:br>
            <a:r>
              <a:rPr b="1" lang="en-US" sz="3600" spc="-1" strike="noStrike">
                <a:solidFill>
                  <a:srgbClr val="a69564"/>
                </a:solidFill>
                <a:latin typeface="Garamond"/>
              </a:rPr>
              <a:t>Learning Needs of Students</a:t>
            </a:r>
            <a:endParaRPr b="0" lang="en-US" sz="3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ED0F9-1772-4669-8203-331D6F40799C}" type="slidenum">
              <a:t>3</a:t>
            </a:fld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a69564"/>
                </a:solidFill>
                <a:latin typeface="Garamond"/>
              </a:rPr>
              <a:t>Library Materials Aid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2500"/>
                </a:solidFill>
                <a:latin typeface="Garamond"/>
              </a:rPr>
              <a:t>Foundation Formula-</a:t>
            </a: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tate Aid: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Adequate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Sustainable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Fair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Commensurate with cost of education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Enables students to meet the standards.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-229680" y="55440"/>
            <a:ext cx="2819520" cy="1738440"/>
            <a:chOff x="-229680" y="55440"/>
            <a:chExt cx="2819520" cy="1738440"/>
          </a:xfrm>
        </p:grpSpPr>
        <p:sp>
          <p:nvSpPr>
            <p:cNvPr id="193" name=""/>
            <p:cNvSpPr/>
            <p:nvPr/>
          </p:nvSpPr>
          <p:spPr>
            <a:xfrm>
              <a:off x="-229680" y="74880"/>
              <a:ext cx="1635120" cy="911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356400" y="55440"/>
              <a:ext cx="2233440" cy="1738440"/>
              <a:chOff x="356400" y="55440"/>
              <a:chExt cx="2233440" cy="1738440"/>
            </a:xfrm>
          </p:grpSpPr>
          <p:sp>
            <p:nvSpPr>
              <p:cNvPr id="195" name=""/>
              <p:cNvSpPr/>
              <p:nvPr/>
            </p:nvSpPr>
            <p:spPr>
              <a:xfrm rot="20118000">
                <a:off x="471960" y="428040"/>
                <a:ext cx="2001600" cy="99288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20118000">
                <a:off x="579240" y="492840"/>
                <a:ext cx="1780200" cy="86076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Materials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br>
                  <a:rPr sz="2000"/>
                </a:b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CF025-A991-4C2C-987F-3AC0804E21BC}" type="slidenum">
              <a:t>4</a:t>
            </a:fld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18960" y="990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69564"/>
                </a:solidFill>
                <a:latin typeface="Garamond"/>
              </a:rPr>
              <a:t>Library Materials Aid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Action Items: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Educational Technology</a:t>
            </a:r>
            <a:br>
              <a:rPr sz="2400"/>
            </a:b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Professional Development: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Focus group: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-229680" y="55440"/>
            <a:ext cx="2819520" cy="1738440"/>
            <a:chOff x="-229680" y="55440"/>
            <a:chExt cx="2819520" cy="1738440"/>
          </a:xfrm>
        </p:grpSpPr>
        <p:sp>
          <p:nvSpPr>
            <p:cNvPr id="200" name=""/>
            <p:cNvSpPr/>
            <p:nvPr/>
          </p:nvSpPr>
          <p:spPr>
            <a:xfrm>
              <a:off x="-229680" y="74880"/>
              <a:ext cx="1635120" cy="911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356400" y="55440"/>
              <a:ext cx="2233440" cy="1738440"/>
              <a:chOff x="356400" y="55440"/>
              <a:chExt cx="2233440" cy="1738440"/>
            </a:xfrm>
          </p:grpSpPr>
          <p:sp>
            <p:nvSpPr>
              <p:cNvPr id="202" name=""/>
              <p:cNvSpPr/>
              <p:nvPr/>
            </p:nvSpPr>
            <p:spPr>
              <a:xfrm rot="20118000">
                <a:off x="471960" y="428040"/>
                <a:ext cx="2001600" cy="99288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20118000">
                <a:off x="579240" y="492840"/>
                <a:ext cx="1780200" cy="86076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Materials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br>
                  <a:rPr sz="2000"/>
                </a:b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9AFA1-F7B3-477F-82A1-CD1143044856}" type="slidenum">
              <a:t>5</a:t>
            </a:fld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20:37:35Z</dcterms:created>
  <dc:creator> </dc:creator>
  <dc:description/>
  <dc:language>en-US</dc:language>
  <cp:lastModifiedBy> </cp:lastModifiedBy>
  <dcterms:modified xsi:type="dcterms:W3CDTF">2009-05-08T16:12:40Z</dcterms:modified>
  <cp:revision>110</cp:revision>
  <dc:subject/>
  <dc:title>Work Group Question here</dc:title>
</cp:coreProperties>
</file>